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4B1D-EB5C-428C-B831-67D4A1FFF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5CA9-5EB1-4F9F-B141-27C3A712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1F0D-E9C4-4F92-93B2-D68198EC9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6559-ED45-4BBE-B636-989BFFD59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4915-5969-40B0-A4B4-A0298349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7E12-1F0F-41A0-9AC5-97F31767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1038-41E2-40EA-A48D-A7702D5C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7FED-C933-479A-B3E8-042E2B34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BA5D-60F9-4DD4-904D-337B15A3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2595-C40E-4846-BB3E-A8BEF8AE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6255-74B7-407A-922F-7EB15DA3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0181-920B-4995-A75A-30913A18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3B75-23FE-435F-BC53-16BC688FC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4648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Petit Agneau s’installe près du feu, mais soud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2590920"/>
            <a:ext cx="4952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OC! TOC! TOC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Cette foi-ci, c’est s</a:t>
            </a:r>
            <a:r>
              <a:rPr b="0" lang="en-US" sz="3200" spc="-1" strike="noStrike">
                <a:solidFill>
                  <a:srgbClr val="ffff00"/>
                </a:solidFill>
                <a:latin typeface="Book Antiqua"/>
                <a:ea typeface="Arial"/>
              </a:rPr>
              <a:t>ûrement LE LOU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90960" y="15238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C’est moi, Petit Chaperon Rou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Je t’apporte des galettes et un petit pot de beur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90960" y="32004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C’est moi, Petit Chaperon Rou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Jee t’apporte des galettes et un petit pot de beur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54097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Les amis se mettent à table quand soud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4267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BOUM! BOUM! BOU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C’etait un très grande bou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2514600"/>
            <a:ext cx="297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C’est LE LOUP! Il a très très fa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Mais à piene le loup a-t-il fait un lapin, cochons, chèvre chevreaux, agneau, Pierre et Chaperon rouge rouge se jettent sur lu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Ce soir, monsieur Lapin a peur d’aller se couc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Il vient de lire dans son journal une nouvelle terrifiante! LE LOUP EST REVEN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LOUP, NOUN N’AVONS PLUS PEUR DE TO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Mais si tu promets d’être gentil et de nous raconter des histiores de loup qui font peur, alors, nous t’invitons à d</a:t>
            </a:r>
            <a:r>
              <a:rPr b="0" lang="en-US" sz="3200" spc="-1" strike="noStrike">
                <a:solidFill>
                  <a:srgbClr val="ffff00"/>
                </a:solidFill>
                <a:latin typeface="Book Antiqua"/>
                <a:ea typeface="Arial"/>
              </a:rPr>
              <a:t>îner avec n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t c’est ainsi que soir-là, autour d’une table bien garnie, chez monsieur Lap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 LOUP EST REVEN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1.What is the main person’s na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Monsieur la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2. Who visits him fir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The three pi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3. Who did he think it w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The wo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4. How many kids does madame chevre ha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S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5. Who brings butter ov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haperon 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4876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Monsieur Lapin fermer la porte à double tour quand soud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OC! TOC! TOC! C’est le loup!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5105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Entrez, mes amis, entrez,” leur dit monsieur Lapin, soulag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010280" y="1523880"/>
            <a:ext cx="2438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OC! TOC! TOC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Aïe, aïe, aïe! Voici le Lou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4876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C’est moi, madame Chèvre avec mes sept petits chrevreau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Entre ma bonne am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629040" y="327672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out la famille s’installe et soud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OC! TOC! TOC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Est-ce LE LOUP qui frappe de la sort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5562720"/>
            <a:ext cx="6781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C’est moi Petit Agneau. J’ètais en bas près du ruisseau. Le Loup est Reven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7:06:48Z</dcterms:created>
  <dc:creator>CVJH-LAB</dc:creator>
  <dc:description/>
  <dc:language>en-US</dc:language>
  <cp:lastModifiedBy>nield411</cp:lastModifiedBy>
  <dcterms:modified xsi:type="dcterms:W3CDTF">2008-02-23T22:32:10Z</dcterms:modified>
  <cp:revision>10</cp:revision>
  <dc:subject/>
  <dc:title>Slide 1</dc:title>
</cp:coreProperties>
</file>